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6.png" ContentType="image/png"/>
  <Override PartName="/ppt/media/image3.pct" ContentType="image/x-pict"/>
  <Override PartName="/ppt/media/image5.png" ContentType="image/png"/>
  <Override PartName="/ppt/media/image32.pct" ContentType="image/x-pict"/>
  <Override PartName="/ppt/media/image2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EAF-361C-4001-874E-563ABBF8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2ED-CE5C-4433-982E-99F47F06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223-3D51-496E-884A-B4A8AC58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493-962E-42CD-885C-49F993F2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DB34-C6C4-4425-AD75-2864B0DE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05B-F95F-47C6-96BB-4B2A152A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E7E-C2D1-4121-9C5F-C60268F1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2AA2-0DCC-4371-A7C0-3AC88EBA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248-4621-4016-BB25-83B248E8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324-7CBE-4770-BBAF-618BD10B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58F-B905-43DA-9D7C-08BB65F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938-DD2F-4C4D-8B48-4D9B4AB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CA18-3199-4285-86CB-D21212A2C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hyperlink" Target="http://www.99centwholesale.com/" TargetMode="External"/><Relationship Id="rId4" Type="http://schemas.openxmlformats.org/officeDocument/2006/relationships/hyperlink" Target="http://www.dollaritem.com/" TargetMode="External"/><Relationship Id="rId5" Type="http://schemas.openxmlformats.org/officeDocument/2006/relationships/hyperlink" Target="http://www.buckwholesale.com/" TargetMode="External"/><Relationship Id="rId6" Type="http://schemas.openxmlformats.org/officeDocument/2006/relationships/hyperlink" Target="http://www.dollarbins.com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29400" y="4419720"/>
            <a:ext cx="2336760" cy="1752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43000" y="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http://www.99centwholesale.com/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85760" y="1778040"/>
            <a:ext cx="697248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04840" y="1581120"/>
            <a:ext cx="69343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6870600" cy="3022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6946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1320" y="2171880"/>
            <a:ext cx="692136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136520" y="2070000"/>
            <a:ext cx="6870960" cy="27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04840" y="1701720"/>
            <a:ext cx="693432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79640" y="1708200"/>
            <a:ext cx="698472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1746360"/>
            <a:ext cx="7010640" cy="33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92240" y="2050920"/>
            <a:ext cx="695952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7023240" cy="356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676520" y="3124080"/>
            <a:ext cx="70610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828800" y="3429000"/>
            <a:ext cx="6997680" cy="278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70232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54080" y="1676520"/>
            <a:ext cx="70358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92240" y="2190600"/>
            <a:ext cx="6959520" cy="24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120760" y="291960"/>
            <a:ext cx="4902480" cy="62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9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6668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rtual Dollar $tore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99centwholesale.com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www.dollaritem.com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http://www.buckwholesale.com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://www.dollarbins.com/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276640" y="152280"/>
            <a:ext cx="459072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30400" y="1758960"/>
            <a:ext cx="688320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996840" y="1434960"/>
            <a:ext cx="715032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701064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79640" y="2050920"/>
            <a:ext cx="6984720" cy="2756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981080" y="3733920"/>
            <a:ext cx="69850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6934320" cy="3263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447920" y="2133720"/>
            <a:ext cx="6908760" cy="323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057400" y="3200400"/>
            <a:ext cx="688356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123920" y="2184480"/>
            <a:ext cx="6896160" cy="24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566720"/>
            <a:ext cx="9144000" cy="372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04:04:16Z</dcterms:created>
  <dc:creator>Trial User</dc:creator>
  <dc:description/>
  <dc:language>en-US</dc:language>
  <cp:lastModifiedBy>Mark Roddy</cp:lastModifiedBy>
  <dcterms:modified xsi:type="dcterms:W3CDTF">2005-04-06T22:48:11Z</dcterms:modified>
  <cp:revision>12</cp:revision>
  <dc:subject/>
  <dc:title>PowerPoint Presentation</dc:title>
</cp:coreProperties>
</file>